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D6D-9093-43D2-A40F-D7E6500CA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6D2-93CE-4694-B3E9-8C83D6D6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D88-B353-47EA-8E67-48669F10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30 Loading and unloading of respiratory g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A16D-EED8-4EFA-A5FC-85339C51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820B-E286-4647-A436-BBE64054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A4C-688F-4D92-AD58-BBB352D9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581-69B3-4A5B-8BA9-8604E7B9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BEFB-20B8-4DBE-BF3E-2E102EED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1FFC-CC82-4FCE-8B91-5DE2E30F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674C-F5AA-40EC-B850-944CF104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22 Diversity in the structure of gills, external body surfaces that function in gas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757-12B8-4C08-9FC5-6BB73C8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8F1-6159-4B51-AF8C-DC4F0CF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0AB-026D-488C-8834-1C001C33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338-6BC1-4191-82D9-3AD4B316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C090-94AF-47EB-BDBE-4B3410F5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DF9A-BF09-43C7-AF89-4DF081E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92B-F8F0-4DED-B598-AB263A8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6F9C-CB0D-4687-96CD-F013C65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000C-CD84-4153-B6E9-C3ACA5C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0DBB-C004-4463-876A-F88E5A4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657-C980-4C64-BE23-35D7B58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1AA-CED7-4D54-89F4-06C7ABC5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9AD-2D1A-4C7B-83E8-6B98E7C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8943-2FB3-4EC2-9872-6B193E4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1FB8-ABA4-4F89-A219-C58205B2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5F72-F87C-4184-A039-A10186A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63E9-0F66-46D2-9D47-39C07FE3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D03-BE30-493F-AD7B-25F3455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D15-423B-4BB4-8C24-C4D041C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C2A-D8F9-49C2-93E6-43D0BF81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881-E508-4337-9212-ABB3F23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11E-F0FC-490C-B71C-E8CECD0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073-6A30-4F3F-8975-E0C4A9B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802-B2A2-4D95-B3D9-6A12AEA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47F-48B4-4E37-8400-3C9ECC2B4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14B-4637-44F6-883F-44903C8AA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8"/>
          <p:cNvSpPr/>
          <p:nvPr/>
        </p:nvSpPr>
        <p:spPr>
          <a:xfrm>
            <a:off x="39600" y="1917720"/>
            <a:ext cx="82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rculation and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880" y="83808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mmalian respiratory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42_25aRespiratorySystem-L.jpg"/>
          <p:cNvPicPr/>
          <p:nvPr/>
        </p:nvPicPr>
        <p:blipFill>
          <a:blip r:embed="rId1"/>
          <a:stretch/>
        </p:blipFill>
        <p:spPr>
          <a:xfrm>
            <a:off x="1676520" y="1066680"/>
            <a:ext cx="55386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hway of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ose/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ltered, warmed, humi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aryn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ains vocal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rach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ndpipe; lined with 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ronch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anches to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lve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ir sacs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u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aps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weeps particles up to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veo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tent Placeholder 3" descr="42_25bRespiratorySystem-L.jpg"/>
          <p:cNvPicPr/>
          <p:nvPr/>
        </p:nvPicPr>
        <p:blipFill>
          <a:blip r:embed="rId1"/>
          <a:stretch/>
        </p:blipFill>
        <p:spPr>
          <a:xfrm>
            <a:off x="762120" y="1981080"/>
            <a:ext cx="452592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42_25cRespiratorySystem-L.jpg"/>
          <p:cNvPicPr/>
          <p:nvPr/>
        </p:nvPicPr>
        <p:blipFill>
          <a:blip r:embed="rId2"/>
          <a:stretch/>
        </p:blipFill>
        <p:spPr>
          <a:xfrm>
            <a:off x="5603760" y="533520"/>
            <a:ext cx="32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2.30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9" descr="42_30aRespiratoryGases-U"/>
          <p:cNvPicPr/>
          <p:nvPr/>
        </p:nvPicPr>
        <p:blipFill>
          <a:blip r:embed="rId1"/>
          <a:stretch/>
        </p:blipFill>
        <p:spPr>
          <a:xfrm>
            <a:off x="1816200" y="136440"/>
            <a:ext cx="5511600" cy="658512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38240" y="18432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9"/>
          <p:cNvSpPr/>
          <p:nvPr/>
        </p:nvSpPr>
        <p:spPr>
          <a:xfrm>
            <a:off x="5640480" y="73008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0"/>
          <p:cNvSpPr/>
          <p:nvPr/>
        </p:nvSpPr>
        <p:spPr>
          <a:xfrm>
            <a:off x="5278320" y="18432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4"/>
          <p:cNvSpPr/>
          <p:nvPr/>
        </p:nvSpPr>
        <p:spPr>
          <a:xfrm>
            <a:off x="1863720" y="232092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5"/>
          <p:cNvSpPr/>
          <p:nvPr/>
        </p:nvSpPr>
        <p:spPr>
          <a:xfrm>
            <a:off x="1862280" y="3543480"/>
            <a:ext cx="26640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5513400" y="554364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7"/>
          <p:cNvSpPr/>
          <p:nvPr/>
        </p:nvSpPr>
        <p:spPr>
          <a:xfrm>
            <a:off x="5634000" y="3543480"/>
            <a:ext cx="266760" cy="2664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8"/>
          <p:cNvSpPr/>
          <p:nvPr/>
        </p:nvSpPr>
        <p:spPr>
          <a:xfrm>
            <a:off x="5634000" y="2336760"/>
            <a:ext cx="266760" cy="26676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278080" y="177840"/>
            <a:ext cx="13269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hal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607000" y="174600"/>
            <a:ext cx="1200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192400" y="2333520"/>
            <a:ext cx="1263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187720" y="3560760"/>
            <a:ext cx="1060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956200" y="3560760"/>
            <a:ext cx="1068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962680" y="2362320"/>
            <a:ext cx="123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54800" y="1684440"/>
            <a:ext cx="12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5964120" y="747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2525760" y="1009800"/>
            <a:ext cx="10065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th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4079880" y="4048200"/>
            <a:ext cx="666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575320" y="4830840"/>
            <a:ext cx="125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562200" y="5127480"/>
            <a:ext cx="476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869000" y="5140440"/>
            <a:ext cx="323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5840280" y="5540400"/>
            <a:ext cx="1378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859040" y="6043680"/>
            <a:ext cx="563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The path of respiratory gases in the 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"/>
          <p:cNvSpPr/>
          <p:nvPr/>
        </p:nvSpPr>
        <p:spPr>
          <a:xfrm>
            <a:off x="3475080" y="11509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9"/>
          <p:cNvSpPr/>
          <p:nvPr/>
        </p:nvSpPr>
        <p:spPr>
          <a:xfrm>
            <a:off x="4789440" y="8539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0"/>
          <p:cNvSpPr/>
          <p:nvPr/>
        </p:nvSpPr>
        <p:spPr>
          <a:xfrm>
            <a:off x="4525920" y="1797120"/>
            <a:ext cx="10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5178600" y="2470320"/>
            <a:ext cx="40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3421080" y="2462040"/>
            <a:ext cx="26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3252960" y="368784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4"/>
          <p:cNvSpPr/>
          <p:nvPr/>
        </p:nvSpPr>
        <p:spPr>
          <a:xfrm>
            <a:off x="5356080" y="367524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5"/>
          <p:cNvSpPr/>
          <p:nvPr/>
        </p:nvSpPr>
        <p:spPr>
          <a:xfrm>
            <a:off x="4471920" y="4948200"/>
            <a:ext cx="10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6"/>
          <p:cNvSpPr/>
          <p:nvPr/>
        </p:nvSpPr>
        <p:spPr>
          <a:xfrm>
            <a:off x="5014800" y="568152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3814920" y="1287360"/>
            <a:ext cx="475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4659480" y="1295280"/>
            <a:ext cx="323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2004840" y="177840"/>
            <a:ext cx="140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2"/>
          <p:cNvSpPr/>
          <p:nvPr/>
        </p:nvSpPr>
        <p:spPr>
          <a:xfrm>
            <a:off x="5345280" y="17136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5707080" y="72396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4"/>
          <p:cNvSpPr/>
          <p:nvPr/>
        </p:nvSpPr>
        <p:spPr>
          <a:xfrm>
            <a:off x="5707080" y="233676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5"/>
          <p:cNvSpPr/>
          <p:nvPr/>
        </p:nvSpPr>
        <p:spPr>
          <a:xfrm>
            <a:off x="1928880" y="2317680"/>
            <a:ext cx="139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6"/>
          <p:cNvSpPr/>
          <p:nvPr/>
        </p:nvSpPr>
        <p:spPr>
          <a:xfrm>
            <a:off x="1928880" y="354348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7"/>
          <p:cNvSpPr/>
          <p:nvPr/>
        </p:nvSpPr>
        <p:spPr>
          <a:xfrm>
            <a:off x="5700600" y="354348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5580000" y="5543640"/>
            <a:ext cx="139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Diaphrag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ome-shaped muscle separating thoracic/abdominal cav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ontent Placeholder 3" descr="42_28Breathing-L.jpg"/>
          <p:cNvPicPr/>
          <p:nvPr/>
        </p:nvPicPr>
        <p:blipFill>
          <a:blip r:embed="rId1"/>
          <a:stretch/>
        </p:blipFill>
        <p:spPr>
          <a:xfrm>
            <a:off x="720720" y="1981080"/>
            <a:ext cx="770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93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rol of Breathing in Huma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359000"/>
            <a:ext cx="4343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center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 changes i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ic acid fo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s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in the aorta and carotid 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91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42_29ControlOfBreathing-L.jpg"/>
          <p:cNvPicPr/>
          <p:nvPr/>
        </p:nvPicPr>
        <p:blipFill>
          <a:blip r:embed="rId1"/>
          <a:stretch/>
        </p:blipFill>
        <p:spPr>
          <a:xfrm>
            <a:off x="4572000" y="1523880"/>
            <a:ext cx="44197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aptations for gas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spiratory pigment in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ubunits, each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e grou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ron (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rry 4 molecules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ohr sh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sociates from hemoglobin when blood pH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s, mollu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mocya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opper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2_UN01Hemoglobin-L.jpg"/>
          <p:cNvPicPr/>
          <p:nvPr/>
        </p:nvPicPr>
        <p:blipFill>
          <a:blip r:embed="rId1"/>
          <a:stretch/>
        </p:blipFill>
        <p:spPr>
          <a:xfrm>
            <a:off x="5715000" y="3200400"/>
            <a:ext cx="2514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50004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transport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arbonate ions (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 (2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plasma (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0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42_32aCO2Transport-L.jpg"/>
          <p:cNvPicPr/>
          <p:nvPr/>
        </p:nvPicPr>
        <p:blipFill>
          <a:blip r:embed="rId1"/>
          <a:stretch/>
        </p:blipFill>
        <p:spPr>
          <a:xfrm>
            <a:off x="1447920" y="2895480"/>
            <a:ext cx="2523960" cy="3749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42_32bCO2Transport-L.jpg"/>
          <p:cNvPicPr/>
          <p:nvPr/>
        </p:nvPicPr>
        <p:blipFill>
          <a:blip r:embed="rId2"/>
          <a:stretch/>
        </p:blipFill>
        <p:spPr>
          <a:xfrm>
            <a:off x="4952880" y="2819520"/>
            <a:ext cx="2568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680" y="500040"/>
            <a:ext cx="900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Adaptations of Diving Mamm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365120"/>
            <a:ext cx="853416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ng mammals have evolutionary adaptations that allow them to perform extraordinary f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Weddell seals in Antarctica can remain underwater for 20 minutes to an h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elephant seals can dive to 1,500 m and remain underwater for 2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lood to body volum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pi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eplete it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oxygen in their muscles i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myoglob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Disord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th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irways con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onchi swollen and c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neu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lammation of lung caused by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uberculosis (T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ectious disease caus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mphys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se elasticity of lu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ng 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bnormal cell growth in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2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heart b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blood cells and thei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unction of the lymphatic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pathway of one molecul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air into your pinky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you need to know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characteristics of a respiratory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ransported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ai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796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s exch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ellular respiration and dispose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ial pres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exerted by a particular gas in a mixture of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always diffuse fro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al press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5341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Respiratory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ir 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Respiratory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dy wall, skin, gills, tracheae,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urface area-to-volum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animals: associated with 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9" descr="42_22_GillDiversity-U"/>
          <p:cNvPicPr/>
          <p:nvPr/>
        </p:nvPicPr>
        <p:blipFill>
          <a:blip r:embed="rId1"/>
          <a:stretch/>
        </p:blipFill>
        <p:spPr>
          <a:xfrm>
            <a:off x="297000" y="1415880"/>
            <a:ext cx="8548560" cy="4024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38040" y="4427640"/>
            <a:ext cx="191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nctions as g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1280" y="4994280"/>
            <a:ext cx="191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Mari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63760" y="4995720"/>
            <a:ext cx="191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ray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858960" y="3551400"/>
            <a:ext cx="131760" cy="825480"/>
          </a:xfrm>
          <a:custGeom>
            <a:avLst/>
            <a:gdLst>
              <a:gd name="textAreaLeft" fmla="*/ 84240 w 131760"/>
              <a:gd name="textAreaRight" fmla="*/ 132120 w 1317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566640" y="3967200"/>
            <a:ext cx="3016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747960" y="4094280"/>
            <a:ext cx="549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4267080" y="3881520"/>
            <a:ext cx="3254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V="1">
            <a:off x="4267080" y="3987360"/>
            <a:ext cx="4273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394320" y="3902040"/>
            <a:ext cx="549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6929280" y="3865320"/>
            <a:ext cx="22068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929280" y="3995640"/>
            <a:ext cx="29232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481800" y="4359240"/>
            <a:ext cx="1052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be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184800" y="4994280"/>
            <a:ext cx="1276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 Sea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561440" y="447048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570800" y="3468600"/>
            <a:ext cx="879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lls in aquatic anim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Fish gills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bsorb O</a:t>
            </a:r>
            <a:r>
              <a:rPr b="0" lang="en-US" sz="2800" spc="-1" strike="noStrike" baseline="-25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through countercurrent exchange (blood flows opposite of wate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42_23_GillStructureFunc-L.jpg"/>
          <p:cNvPicPr/>
          <p:nvPr/>
        </p:nvPicPr>
        <p:blipFill>
          <a:blip r:embed="rId1"/>
          <a:stretch/>
        </p:blipFill>
        <p:spPr>
          <a:xfrm>
            <a:off x="304920" y="1523880"/>
            <a:ext cx="85471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cheal systems in inse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42_24_TrachealSystems-L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iratory system in birds (lungs + air sa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42_27_AvianRespiratory-L.jpg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52:52Z</dcterms:created>
  <dc:creator>Jerome Burg</dc:creator>
  <dc:description/>
  <dc:language>en-US</dc:language>
  <cp:lastModifiedBy>local</cp:lastModifiedBy>
  <dcterms:modified xsi:type="dcterms:W3CDTF">2011-03-14T15:14:14Z</dcterms:modified>
  <cp:revision>82</cp:revision>
  <dc:subject/>
  <dc:title>PowerPoint Presentation</dc:title>
</cp:coreProperties>
</file>